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33B-C061-4BB2-A528-7C2748C0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0FF-6CB7-44EC-B9E2-EB2A0F96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403-5F01-4CF5-B22C-B0291930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31E-3488-4A1F-9A70-456D3F8B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FF94-4E38-4DF8-AB78-5E586324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F29E-F56B-4FDC-BB42-F3B02AB3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CF32-3512-4FA2-B5A6-69A27244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B6E4-AB49-4124-AA18-27B6E2F9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C0EC-3855-4E7A-B548-127C64E5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CA49-7682-445F-A451-089C18D0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66E5-B500-449F-ADAE-66F7FDDB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56F-3CFC-4A68-83E3-2B46904D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AFAE-6144-4EDC-A856-09F4F052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5AD9-4D5F-4693-90D2-9F11375A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E783-37B2-4F65-878C-13671FAC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D45A-0913-4BA9-95A6-B9F623BC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9F8F-CA24-4007-9021-E92AEAE1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0D6-EAAE-4066-921D-4B32C918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D0F-112C-4D33-971D-958CC103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CEE-3149-46B3-8D5A-658FD48C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4CB-F92B-4844-A5A5-67DC3CB3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B63-B572-48D7-9C83-A4A7952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7CC-BFB3-42C5-8A27-6CC15FD1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FF3-C9CB-471A-A46D-081F98FF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9DEA-1F5C-4DE4-BB20-046376083F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B639-2DB9-4768-9FAB-F8A5C81EE95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Ancient Symbols and Secret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eroglyphics: Egyptian writing (picture writ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from 3100 BC to AD 1100 (longer than any other writing in the worl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2578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hieroglyphic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057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osetta Sto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ne found in Egypt in 17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ined message written in 3 languages, including ancient Greek and hieroglyph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an Champollion used the stone to decipher hierogly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857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d of Old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d Kingdom lasted for over 90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k pharaohs could not make fighting princes obey them, so the kingdom broke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ddle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ed 2050-1650 B.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raoh Amenemnes reunited Egypt, built a protective wall, and helped troops conquer part of the Su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pharaohs built temples, small pyramids, and f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9:29:38Z</dcterms:created>
  <dc:creator>erin.hendricks</dc:creator>
  <dc:description/>
  <dc:language>en-US</dc:language>
  <cp:lastModifiedBy>erin.hendricks</cp:lastModifiedBy>
  <dcterms:modified xsi:type="dcterms:W3CDTF">2011-09-19T19:37:34Z</dcterms:modified>
  <cp:revision>3</cp:revision>
  <dc:subject/>
  <dc:title>Ancient Symbols and Secrets</dc:title>
</cp:coreProperties>
</file>